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E76DC-88D0-4E16-8588-3AB76827B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91AD7-5CF2-4DE3-85E2-355DC5AC4B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ardworks GCSE Additional Science: Chemi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valent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32306-48F0-4792-A3EE-9E4078CFAB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ardworks GCSE Additional Science: Chemi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valent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llustration contains representations of the different properties of different types of structures with different types of bonding.  It can be used as a discussion point about the differences between ionic, covalent and metallic bonding. There are several discussion points relating to the top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odine – a simple molecular structu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cause it has weak bonds, it has a low melting and boiling point and is therefore starting to melt and evaporate i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odium chloride – an ionic compou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cause it is an ionic compound, it is soluble in water. This is because the slightly charged water molecules can attract the ions of sodium chloride away from the lattic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amond – a giant covalent structu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rd and strong and unaffected by the water of the heat of the sun. He is using sodium chloride as salt on his chi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Copper – metallic structu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, as a metal, is ductile (able to be drawn out into wires). It is also unaffected by the water and the heat from the sun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lso the GCSE Science chemistry ‘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Metals and Alloy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’ presentation for more information on metallic bond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the GCSE Additional Science chemistry ‘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onic Bonding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’ presentation for more information about ionic bo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7DE-1BD3-44F5-A2EC-A04F05B7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D7A-3D6D-4707-9F4E-54068A2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976-7D39-4D37-AEF0-DDAC55EE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70-5903-4323-9C23-C6A14EF5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354-D66F-4856-AD77-79AC2F2D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45D-DF10-4F79-9163-2C7C026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D02-0A31-42A5-9A78-E4F129F7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67D-0E14-4AAD-BA15-7C3A74C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573-59FE-4734-BD55-3D83657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6DE-DA27-4BAA-9791-2C09F1E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773-E5BF-4E4E-8CEB-6C5D8C5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8EA-9B1E-4B11-BE52-979688F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95915-A838-4556-A04D-F778458F6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"/>
          <p:cNvPicPr/>
          <p:nvPr/>
        </p:nvPicPr>
        <p:blipFill>
          <a:blip r:embed="rId1"/>
          <a:stretch/>
        </p:blipFill>
        <p:spPr>
          <a:xfrm>
            <a:off x="414360" y="554040"/>
            <a:ext cx="83152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ant io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"/>
          <p:cNvPicPr/>
          <p:nvPr/>
        </p:nvPicPr>
        <p:blipFill>
          <a:blip r:embed="rId1"/>
          <a:srcRect l="-5606" t="0" r="-5606" b="0"/>
          <a:stretch/>
        </p:blipFill>
        <p:spPr>
          <a:xfrm>
            <a:off x="98280" y="1720800"/>
            <a:ext cx="4746600" cy="26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237280" y="3597120"/>
            <a:ext cx="3174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4592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molec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"/>
          <p:cNvPicPr/>
          <p:nvPr/>
        </p:nvPicPr>
        <p:blipFill>
          <a:blip r:embed="rId1"/>
          <a:srcRect l="0" t="8675" r="0" b="8675"/>
          <a:stretch/>
        </p:blipFill>
        <p:spPr>
          <a:xfrm>
            <a:off x="457200" y="1098720"/>
            <a:ext cx="3897360" cy="23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457200" y="3976560"/>
            <a:ext cx="3378240" cy="17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305320" y="3276720"/>
            <a:ext cx="2730600" cy="298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ater_bonds"/>
          <p:cNvPicPr/>
          <p:nvPr/>
        </p:nvPicPr>
        <p:blipFill>
          <a:blip r:embed="rId4"/>
          <a:stretch/>
        </p:blipFill>
        <p:spPr>
          <a:xfrm>
            <a:off x="4927680" y="658800"/>
            <a:ext cx="3824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ant molecu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573880" y="3629160"/>
            <a:ext cx="2620800" cy="24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69880" y="2389320"/>
            <a:ext cx="4343400" cy="385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384800" y="453960"/>
            <a:ext cx="42940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98560" y="752040"/>
            <a:ext cx="56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ant metal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rcRect l="-52304" t="0" r="-52304" b="0"/>
          <a:stretch/>
        </p:blipFill>
        <p:spPr>
          <a:xfrm>
            <a:off x="-933480" y="344520"/>
            <a:ext cx="5726160" cy="319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235320" y="3205080"/>
            <a:ext cx="5730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4"/>
          <p:cNvSpPr/>
          <p:nvPr/>
        </p:nvSpPr>
        <p:spPr>
          <a:xfrm>
            <a:off x="6095880" y="2381400"/>
            <a:ext cx="2451240" cy="3898800"/>
          </a:xfrm>
          <a:custGeom>
            <a:avLst/>
            <a:gdLst>
              <a:gd name="textAreaLeft" fmla="*/ 48600 w 2451240"/>
              <a:gd name="textAreaRight" fmla="*/ 2402640 w 2451240"/>
              <a:gd name="textAreaTop" fmla="*/ 48600 h 3898800"/>
              <a:gd name="textAreaBottom" fmla="*/ 3850200 h 3898800"/>
            </a:gdLst>
            <a:ahLst/>
            <a:rect l="textAreaLeft" t="textAreaTop" r="textAreaRight" b="textAreaBottom"/>
            <a:pathLst>
              <a:path w="21600" h="34354">
                <a:moveTo>
                  <a:pt x="1465" y="0"/>
                </a:moveTo>
                <a:arcTo wR="1465" hR="1465" stAng="16200000" swAng="-5400000"/>
                <a:lnTo>
                  <a:pt x="0" y="32889"/>
                </a:lnTo>
                <a:arcTo wR="1465" hR="1465" stAng="10800000" swAng="-5400000"/>
                <a:lnTo>
                  <a:pt x="20135" y="34354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c19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3403440" y="2381400"/>
            <a:ext cx="2527560" cy="3898800"/>
          </a:xfrm>
          <a:custGeom>
            <a:avLst/>
            <a:gdLst>
              <a:gd name="textAreaLeft" fmla="*/ 50040 w 2527560"/>
              <a:gd name="textAreaRight" fmla="*/ 2477520 w 2527560"/>
              <a:gd name="textAreaTop" fmla="*/ 50040 h 3898800"/>
              <a:gd name="textAreaBottom" fmla="*/ 3848760 h 3898800"/>
            </a:gdLst>
            <a:ahLst/>
            <a:rect l="textAreaLeft" t="textAreaTop" r="textAreaRight" b="textAreaBottom"/>
            <a:pathLst>
              <a:path w="21600" h="33317">
                <a:moveTo>
                  <a:pt x="1465" y="0"/>
                </a:moveTo>
                <a:arcTo wR="1465" hR="1465" stAng="16200000" swAng="-5400000"/>
                <a:lnTo>
                  <a:pt x="0" y="31852"/>
                </a:lnTo>
                <a:arcTo wR="1465" hR="1465" stAng="10800000" swAng="-5400000"/>
                <a:lnTo>
                  <a:pt x="20135" y="33317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c19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635040" y="2381400"/>
            <a:ext cx="2590920" cy="3898800"/>
          </a:xfrm>
          <a:custGeom>
            <a:avLst/>
            <a:gdLst>
              <a:gd name="textAreaLeft" fmla="*/ 51120 w 2590920"/>
              <a:gd name="textAreaRight" fmla="*/ 2539800 w 2590920"/>
              <a:gd name="textAreaTop" fmla="*/ 51120 h 3898800"/>
              <a:gd name="textAreaBottom" fmla="*/ 3847680 h 3898800"/>
            </a:gdLst>
            <a:ahLst/>
            <a:rect l="textAreaLeft" t="textAreaTop" r="textAreaRight" b="textAreaBottom"/>
            <a:pathLst>
              <a:path w="21600" h="32502">
                <a:moveTo>
                  <a:pt x="1465" y="0"/>
                </a:moveTo>
                <a:arcTo wR="1465" hR="1465" stAng="16200000" swAng="-5400000"/>
                <a:lnTo>
                  <a:pt x="0" y="31037"/>
                </a:lnTo>
                <a:arcTo wR="1465" hR="1465" stAng="10800000" swAng="-5400000"/>
                <a:lnTo>
                  <a:pt x="20135" y="32502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c19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iamond"/>
          <p:cNvPicPr/>
          <p:nvPr/>
        </p:nvPicPr>
        <p:blipFill>
          <a:blip r:embed="rId1"/>
          <a:stretch/>
        </p:blipFill>
        <p:spPr>
          <a:xfrm>
            <a:off x="3747960" y="3549600"/>
            <a:ext cx="1940040" cy="271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metallic_bonding"/>
          <p:cNvPicPr/>
          <p:nvPr/>
        </p:nvPicPr>
        <p:blipFill>
          <a:blip r:embed="rId2"/>
          <a:stretch/>
        </p:blipFill>
        <p:spPr>
          <a:xfrm>
            <a:off x="6078600" y="2692440"/>
            <a:ext cx="2328840" cy="158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onic_lattice"/>
          <p:cNvPicPr/>
          <p:nvPr/>
        </p:nvPicPr>
        <p:blipFill>
          <a:blip r:embed="rId3"/>
          <a:stretch/>
        </p:blipFill>
        <p:spPr>
          <a:xfrm>
            <a:off x="1066680" y="257796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63400" y="1139760"/>
            <a:ext cx="839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bstances with giant structures generally hav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gh melting and boiling poi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because all the atoms are strongly bonded together to form a continuous 3D lattic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large amount of energy is needed to break these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12800" y="495936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rong ionic bonds holds 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498840" y="2357280"/>
            <a:ext cx="28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rong covalent bonds holds atom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1655280" y="3592440"/>
            <a:ext cx="630360" cy="1378800"/>
            <a:chOff x="1655280" y="3592440"/>
            <a:chExt cx="630360" cy="1378800"/>
          </a:xfrm>
        </p:grpSpPr>
        <p:sp>
          <p:nvSpPr>
            <p:cNvPr id="74" name="Line 9"/>
            <p:cNvSpPr/>
            <p:nvPr/>
          </p:nvSpPr>
          <p:spPr>
            <a:xfrm flipH="1" flipV="1">
              <a:off x="1655280" y="3975840"/>
              <a:ext cx="283320" cy="9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V="1">
              <a:off x="1940760" y="3592440"/>
              <a:ext cx="344880" cy="137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5"/>
          <p:cNvGrpSpPr/>
          <p:nvPr/>
        </p:nvGrpSpPr>
        <p:grpSpPr>
          <a:xfrm>
            <a:off x="4728960" y="3506760"/>
            <a:ext cx="365400" cy="1317600"/>
            <a:chOff x="4728960" y="3506760"/>
            <a:chExt cx="365400" cy="1317600"/>
          </a:xfrm>
        </p:grpSpPr>
        <p:sp>
          <p:nvSpPr>
            <p:cNvPr id="77" name="Line 12"/>
            <p:cNvSpPr/>
            <p:nvPr/>
          </p:nvSpPr>
          <p:spPr>
            <a:xfrm flipH="1">
              <a:off x="4728960" y="3517200"/>
              <a:ext cx="306360" cy="73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>
              <a:off x="5049720" y="3506760"/>
              <a:ext cx="44640" cy="131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4"/>
          <p:cNvGrpSpPr/>
          <p:nvPr/>
        </p:nvGrpSpPr>
        <p:grpSpPr>
          <a:xfrm>
            <a:off x="6899040" y="3448080"/>
            <a:ext cx="765000" cy="1372320"/>
            <a:chOff x="6899040" y="3448080"/>
            <a:chExt cx="765000" cy="1372320"/>
          </a:xfrm>
        </p:grpSpPr>
        <p:sp>
          <p:nvSpPr>
            <p:cNvPr id="80" name="Line 15"/>
            <p:cNvSpPr/>
            <p:nvPr/>
          </p:nvSpPr>
          <p:spPr>
            <a:xfrm flipH="1" flipV="1">
              <a:off x="6899040" y="3818520"/>
              <a:ext cx="304200" cy="1001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 flipV="1">
              <a:off x="7205040" y="3448080"/>
              <a:ext cx="45900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Text Box 19"/>
          <p:cNvSpPr/>
          <p:nvPr/>
        </p:nvSpPr>
        <p:spPr>
          <a:xfrm>
            <a:off x="6173640" y="4781520"/>
            <a:ext cx="26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rong metallic bonds holds 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3040" y="414000"/>
            <a:ext cx="7494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lting and boiling point: giant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6920" y="150480"/>
            <a:ext cx="753588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oes bonding affect proper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1_5a_NB"/>
          <p:cNvPicPr/>
          <p:nvPr/>
        </p:nvPicPr>
        <p:blipFill>
          <a:blip r:embed="rId1"/>
          <a:stretch/>
        </p:blipFill>
        <p:spPr>
          <a:xfrm>
            <a:off x="436680" y="1657440"/>
            <a:ext cx="8429400" cy="4862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63400" y="1012680"/>
            <a:ext cx="85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es the type of bonding in a substance affect its propertie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00:00:52Z</dcterms:created>
  <dc:creator>Nico Van De Casteele</dc:creator>
  <dc:description/>
  <dc:language>en-US</dc:language>
  <cp:lastModifiedBy>Nico Van De Casteele</cp:lastModifiedBy>
  <dcterms:modified xsi:type="dcterms:W3CDTF">2013-11-11T05:11:20Z</dcterms:modified>
  <cp:revision>11</cp:revision>
  <dc:subject/>
  <dc:title>PowerPoint Presentation</dc:title>
</cp:coreProperties>
</file>